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AFB-EE0B-414D-87BB-14E45F73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A0A-817F-4A95-8671-57ADC38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03F-2B33-4072-B138-9C3A9AB3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775-1A10-4E24-9F75-A780BC8F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31A-D16E-4875-8A16-D6C57678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8C00-E7F0-4CE7-B7D9-245D94B2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B1EA-5322-48BD-8506-7B1E5BF9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78B-7A2C-4F22-9A84-D1D7A39D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CA7-5BEA-49FE-9163-3108F05B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613C-4424-457E-B076-910823A3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65F9-7AD5-47DF-B89C-023B5B3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1C2-C97B-4B2C-856E-42C1861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839-1FEC-4CC2-9CF3-A88346C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39F1-251A-4707-8560-6223F4ED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5748-E474-4C5E-937E-E024FD0D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226B-D9AB-41FA-B19D-034D57D6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D97-EA40-430E-9CDC-40FE15E2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241-E1AA-4900-9854-EA3B28E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BD1-502C-4676-A54B-9881C12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55E-1DA9-4B1F-BEF9-D007818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5C9-7E41-4FB3-8182-A93AF03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03F-01E0-4C7A-B628-3E1085B3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978-E748-4B56-8D79-7E4F9E6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D6B-9A5E-483B-8CAB-935C1A7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766-F504-43DF-8C60-C915F0FF54FE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836-F536-4026-BFA4-D0AADB4B2A36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ivics!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ric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ident and Vice Presid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Qualifica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4 year ter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 term limi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st be at least 35 years of 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orn in the US and have lived in the US for 14 ye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Qualifications for Senat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6 year ter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term limi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st be 30 years ol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 Citizen for at least 9 ye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Qualifications for the Hous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 year ter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term limi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st be at least 25 years old, and US Citizen for at least 7 ye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Qualifications for the SUPREME cour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rve for life or until they decide to reti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requiremen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ctoral Colleg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states ‘Electoral’ votes are awarded based upon how many representatives and senators they have in tota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ample: Maine has 2 Senators and 2 Representatives. Maine is worth 4 in the electoral colle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lectoral college makes it a two horse race (Democrats and Republican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mall states matter stil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ndidates must get support in a variety of regions not just the big stat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Federal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balance of power between State and Federal gover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eans no one sector or person controls all pieces of the law and gover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3:45:06Z</dcterms:created>
  <dc:creator>Yarmouth Schools</dc:creator>
  <dc:description/>
  <dc:language>en-US</dc:language>
  <cp:lastModifiedBy>YHS Teacher</cp:lastModifiedBy>
  <dcterms:modified xsi:type="dcterms:W3CDTF">2009-06-15T15:01:29Z</dcterms:modified>
  <cp:revision>3</cp:revision>
  <dc:subject/>
  <dc:title>Civics!</dc:title>
</cp:coreProperties>
</file>